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024B-36C6-4BEC-B516-E5785888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7940-117E-4A8F-B223-8AF1D9ED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C4C4-7B11-47B3-A545-0DC1F6E1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77B0-B4C9-451C-AF81-6FE561D0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AF94-51A0-4CC3-B884-8D8E984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FD6F-5FE7-4336-8388-36203C90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C178-F559-4700-AC4A-93CF05CD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8AF1-BE87-4069-84CF-D312D5E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7BA-729D-479E-AE04-7C88594B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DA59-C5C1-4297-8C5F-5ADEF74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D1B-C28F-4465-9526-73457729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4838-E8BB-4B2E-A000-6476F88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811-4810-4F0D-84EB-4B4047D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F35B-869E-43F2-84E8-0BCC4AA6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F61-440C-4402-8868-06F14CF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D01-5451-40F0-90D3-96095205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6E0A-E5BF-4FB7-B41D-87A5A52A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3581-A5E7-483D-A484-09CA13E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5ED9-94BF-4888-9C0A-4059EDB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1E3C-85D6-4B0C-BF32-D178701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28B0-6429-4050-B19C-6104E57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D8E7-7BB7-4070-BD3C-F0A1D02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50A7-5A2B-4F84-8D7B-D140D1F7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1BEC-DB2D-4987-88B9-D7E24747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CEEC-C40B-4099-85B1-46F06FA736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D62-6DF8-4023-8383-141D145D3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MATEMATİK </a:t>
            </a:r>
            <a:br>
              <a:rPr sz="6000"/>
            </a:b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PROJESİ 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RE ÜZÜMCÜOĞ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/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87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İLGİ BANKA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PROJENİN ADI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NİN ADI  ‘BİLGİ BANKASI’ 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NİN ŞEKLİ VEYA TİPİ DEĞİLDE, İÇİNDEKİ BİLGİLERE GÖRE BİR İSİM KULLANILMIŞT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APIM AŞAMASI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ÖNCELİKLE İKİ KÜÇÜK, İKİDE BÜYÜK CAM KULLANACAK (KÜÇÜK=10-15 ARA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ÜYÜK=30-40 CM ARAS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 DÖRT CAMI BİRBİRİNE YAPIŞTIRIP BİR DİKDÖRTGEN ŞEKLİ HALİNE ÇEVİRDİKTEN SONRA, YAKLAŞIK 5 VEYE 6 ÇİZGİ ŞEKLİNDE BİRER DELİK AÇARI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 BU DELİKLERİN ARASINA GİRECEK ŞEKİLDE KİTAPTAKİ BİRKAÇ ÜNİTENİN DE ÜZERLERİNDE BULUNDUĞU SERT BİR TABAKAYI İÇERİSİNE YERLEŞTİRİRİZ. (KONU ANLATIMLI ÜNİTEL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ÜZERİNDE BULUNACAK ÜNİTELER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ÜNİ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TAM SAYILARLA İŞ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RASYONEL SAYI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DOĞRULAR ve AÇI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ÜNİ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RASYONEL SAYILARLA İŞ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CEBİRSEL İFADE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DENKLEM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ÇEMBER ve DAİ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AÇILARI ÖLÇ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KULLANILACAK MALZEMELER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LEM,SİLGİ,RENKLİ KALEM,YAPIŞTIR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4 KAĞ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T TABAKA (MUKAVVA gib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İLİK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YAKLAŞIK GİDER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=10 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LEM,SİLGİ,RENKLİ KALEM,YAPIŞTIRICI=3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4 KAĞIDI=1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T TABAKA (MUKAVVA gibi)=2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İLİKON=7T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PL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3 T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heel spokes="1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1:47:59Z</dcterms:created>
  <dc:creator>emre</dc:creator>
  <dc:description/>
  <dc:language>en-US</dc:language>
  <cp:lastModifiedBy>emre</cp:lastModifiedBy>
  <dcterms:modified xsi:type="dcterms:W3CDTF">2011-01-14T06:41:07Z</dcterms:modified>
  <cp:revision>4</cp:revision>
  <dc:subject/>
  <dc:title>MATEMATİK  PROJESİ </dc:title>
</cp:coreProperties>
</file>